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11.jpeg" ContentType="image/jpeg"/>
  <Override PartName="/ppt/media/image7.png" ContentType="image/png"/>
  <Override PartName="/ppt/media/image10.wmf" ContentType="image/x-wmf"/>
  <Override PartName="/ppt/media/image12.jpeg" ContentType="image/jpe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17CE1-B76B-49F6-BBE6-2D54BCDBB2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79209-6A33-4A00-871C-BC10C5EAC2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3AE87-8072-40DC-8CB0-E1DAFC9A3E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2D3B1-7769-4241-AA3C-ED9E3992AC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B1C9A-F941-489F-91ED-C912551FB8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B0D58-7410-49B3-8352-DA7DFDB901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51D61-40FD-41B7-981D-5109D66A08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E085D-C5D9-4E1A-A3A6-49E78A08B5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30FCD-58AF-464E-90EE-BD8AC0BA30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50B75-5D23-4AB7-B10B-F429EEC3A6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D5B9D-964B-4BE4-B5D5-90C6974E28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9EEA5-B544-4C38-9D87-62ECCD70B5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0D6A6-C685-4770-A10A-8F21F4E87879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55520" y="3236760"/>
            <a:ext cx="5587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Integration Competency Cent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12760" y="3225960"/>
            <a:ext cx="55879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EDI Develop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2240" y="1892160"/>
            <a:ext cx="558792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ews from the Flight Deck</a:t>
            </a:r>
            <a:br>
              <a:rPr sz="1600"/>
            </a:b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huck Ferr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36440" y="3225960"/>
            <a:ext cx="55879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Mojo Communic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46640" y="2419200"/>
            <a:ext cx="1009800" cy="12859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74600" y="3236760"/>
            <a:ext cx="5587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Ollie Ollie Ov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400" y="3236760"/>
            <a:ext cx="5587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Monte Pythons Flying Transac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12760" y="3225960"/>
            <a:ext cx="55879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E-Data Movers and Shak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5520" y="3236760"/>
            <a:ext cx="5587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Global Data Exchang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5520" y="3236760"/>
            <a:ext cx="5587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Data Exchange Solu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ata Transformation (CSV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1576440" y="1379520"/>
            <a:ext cx="5958000" cy="44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ata Transformation (XML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858960" y="1219320"/>
            <a:ext cx="3597120" cy="366876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4840200" y="1579680"/>
            <a:ext cx="3598920" cy="32526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875160" y="4862520"/>
            <a:ext cx="3094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Compress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Expensive startu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Standar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Readable with train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862880" y="4862520"/>
            <a:ext cx="3333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Expanded data struc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Less expensive startu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Flexi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Read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1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8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5" dur="10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2" dur="10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9" dur="10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6" dur="10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3" dur="10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0" dur="10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hat to keep an eye 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1276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  <a:ea typeface="Arial"/>
              </a:rPr>
              <a:t>Security/Encryp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  <a:ea typeface="Arial"/>
              </a:rPr>
              <a:t>Commun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 Black"/>
                <a:ea typeface="Arial"/>
              </a:rPr>
              <a:t>Frame Re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 Black"/>
                <a:ea typeface="Arial"/>
              </a:rPr>
              <a:t>Inter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  <a:ea typeface="Arial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 Black"/>
                <a:ea typeface="Arial"/>
              </a:rPr>
              <a:t>Standar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 Black"/>
                <a:ea typeface="Arial"/>
              </a:rPr>
              <a:t>Transfor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9" dur="1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6" dur="10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3" dur="10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0" dur="10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7" dur="1000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4" dur="1000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1" dur="1000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649680" y="3121200"/>
            <a:ext cx="2611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  <a:ea typeface="Arial"/>
              </a:rPr>
              <a:t>Question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Burlington Northern Santa Fe Railway Company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es one of the largest railroad networks in North Ame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,000 Route M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vering 28 States and two Canadian Provi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covers the western two thirds of the United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s more Intermodal equipment then any other Railroad in the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's largest grain-hauling railro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uls enough coal to generate more than 10 percent of the electricity produced in the United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s approximately 38,000 peop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hange approximately a million transactions every day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 WebServices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32280" y="1123920"/>
            <a:ext cx="1087200" cy="711360"/>
          </a:xfrm>
          <a:prstGeom prst="flowChartMagneticDisk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Logg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344600" y="2563920"/>
            <a:ext cx="10857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Intern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22560" y="2563920"/>
            <a:ext cx="10875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327720" y="2577960"/>
            <a:ext cx="1085760" cy="69696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External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675320" y="2563920"/>
            <a:ext cx="10857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Rout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47" idx="3"/>
            <a:endCxn id="148" idx="1"/>
          </p:cNvCxnSpPr>
          <p:nvPr/>
        </p:nvCxnSpPr>
        <p:spPr>
          <a:xfrm>
            <a:off x="2453760" y="2918880"/>
            <a:ext cx="54648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sm" type="triangle" w="sm"/>
            <a:tailEnd len="sm" type="triangle" w="sm"/>
          </a:ln>
        </p:spPr>
      </p:cxnSp>
      <p:cxnSp>
        <p:nvCxnSpPr>
          <p:cNvPr id="152" name=""/>
          <p:cNvCxnSpPr>
            <a:stCxn id="147" idx="3"/>
            <a:endCxn id="148" idx="1"/>
          </p:cNvCxnSpPr>
          <p:nvPr/>
        </p:nvCxnSpPr>
        <p:spPr>
          <a:xfrm>
            <a:off x="2453760" y="2918880"/>
            <a:ext cx="546480" cy="1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53" name=""/>
          <p:cNvCxnSpPr>
            <a:stCxn id="148" idx="3"/>
            <a:endCxn id="150" idx="1"/>
          </p:cNvCxnSpPr>
          <p:nvPr/>
        </p:nvCxnSpPr>
        <p:spPr>
          <a:xfrm>
            <a:off x="4132440" y="2918880"/>
            <a:ext cx="521280" cy="1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54" name=""/>
          <p:cNvCxnSpPr>
            <a:stCxn id="150" idx="3"/>
            <a:endCxn id="149" idx="1"/>
          </p:cNvCxnSpPr>
          <p:nvPr/>
        </p:nvCxnSpPr>
        <p:spPr>
          <a:xfrm>
            <a:off x="5784840" y="2918880"/>
            <a:ext cx="519840" cy="900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55" name=""/>
          <p:cNvCxnSpPr>
            <a:stCxn id="146" idx="3"/>
            <a:endCxn id="148" idx="0"/>
          </p:cNvCxnSpPr>
          <p:nvPr/>
        </p:nvCxnSpPr>
        <p:spPr>
          <a:xfrm flipH="1">
            <a:off x="3564720" y="1856880"/>
            <a:ext cx="10440" cy="685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sp>
        <p:nvSpPr>
          <p:cNvPr id="156" name=""/>
          <p:cNvSpPr/>
          <p:nvPr/>
        </p:nvSpPr>
        <p:spPr>
          <a:xfrm>
            <a:off x="3032280" y="3697200"/>
            <a:ext cx="1087200" cy="711360"/>
          </a:xfrm>
          <a:prstGeom prst="flowChartMagneticDisk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Logg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44600" y="5137200"/>
            <a:ext cx="10857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eb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22560" y="5137200"/>
            <a:ext cx="10875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365880" y="5137200"/>
            <a:ext cx="10857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External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75320" y="5137200"/>
            <a:ext cx="10857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Rout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1" name=""/>
          <p:cNvCxnSpPr>
            <a:stCxn id="157" idx="3"/>
            <a:endCxn id="158" idx="1"/>
          </p:cNvCxnSpPr>
          <p:nvPr/>
        </p:nvCxnSpPr>
        <p:spPr>
          <a:xfrm>
            <a:off x="2453760" y="5492520"/>
            <a:ext cx="54648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sm" type="triangle" w="sm"/>
            <a:tailEnd len="sm" type="triangle" w="sm"/>
          </a:ln>
        </p:spPr>
      </p:cxnSp>
      <p:cxnSp>
        <p:nvCxnSpPr>
          <p:cNvPr id="162" name=""/>
          <p:cNvCxnSpPr>
            <a:stCxn id="157" idx="3"/>
            <a:endCxn id="158" idx="1"/>
          </p:cNvCxnSpPr>
          <p:nvPr/>
        </p:nvCxnSpPr>
        <p:spPr>
          <a:xfrm>
            <a:off x="2453760" y="5492520"/>
            <a:ext cx="546480" cy="1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63" name=""/>
          <p:cNvCxnSpPr>
            <a:stCxn id="158" idx="3"/>
            <a:endCxn id="160" idx="1"/>
          </p:cNvCxnSpPr>
          <p:nvPr/>
        </p:nvCxnSpPr>
        <p:spPr>
          <a:xfrm>
            <a:off x="4132440" y="5492520"/>
            <a:ext cx="521280" cy="1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64" name=""/>
          <p:cNvCxnSpPr>
            <a:stCxn id="160" idx="3"/>
            <a:endCxn id="159" idx="1"/>
          </p:cNvCxnSpPr>
          <p:nvPr/>
        </p:nvCxnSpPr>
        <p:spPr>
          <a:xfrm>
            <a:off x="5780160" y="5492520"/>
            <a:ext cx="567360" cy="1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65" name=""/>
          <p:cNvCxnSpPr>
            <a:stCxn id="156" idx="3"/>
            <a:endCxn id="158" idx="0"/>
          </p:cNvCxnSpPr>
          <p:nvPr/>
        </p:nvCxnSpPr>
        <p:spPr>
          <a:xfrm flipH="1">
            <a:off x="3564720" y="4430880"/>
            <a:ext cx="10440" cy="68472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sp>
        <p:nvSpPr>
          <p:cNvPr id="166" name=""/>
          <p:cNvSpPr/>
          <p:nvPr/>
        </p:nvSpPr>
        <p:spPr>
          <a:xfrm>
            <a:off x="6365880" y="3505320"/>
            <a:ext cx="1085760" cy="69696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External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365880" y="4351320"/>
            <a:ext cx="1085760" cy="69696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External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8" name=""/>
          <p:cNvCxnSpPr>
            <a:stCxn id="166" idx="1"/>
            <a:endCxn id="160" idx="3"/>
          </p:cNvCxnSpPr>
          <p:nvPr/>
        </p:nvCxnSpPr>
        <p:spPr>
          <a:xfrm flipH="1">
            <a:off x="5779800" y="3854160"/>
            <a:ext cx="567360" cy="1639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69" name=""/>
          <p:cNvCxnSpPr>
            <a:stCxn id="167" idx="1"/>
            <a:endCxn id="160" idx="3"/>
          </p:cNvCxnSpPr>
          <p:nvPr/>
        </p:nvCxnSpPr>
        <p:spPr>
          <a:xfrm flipH="1">
            <a:off x="5779800" y="4700160"/>
            <a:ext cx="567360" cy="793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sp>
        <p:nvSpPr>
          <p:cNvPr id="170" name=""/>
          <p:cNvSpPr/>
          <p:nvPr/>
        </p:nvSpPr>
        <p:spPr>
          <a:xfrm>
            <a:off x="7410240" y="3584520"/>
            <a:ext cx="1806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889fb"/>
                </a:solidFill>
                <a:latin typeface="Arial"/>
                <a:ea typeface="Arial"/>
              </a:rPr>
              <a:t>Tim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889fb"/>
                </a:solidFill>
                <a:latin typeface="Arial"/>
                <a:ea typeface="Arial"/>
              </a:rPr>
              <a:t>Maintain Connec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889fb"/>
                </a:solidFill>
                <a:latin typeface="Arial"/>
                <a:ea typeface="Arial"/>
              </a:rPr>
              <a:t>XML forma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56320" y="1201680"/>
            <a:ext cx="13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Tradit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8400" y="3789360"/>
            <a:ext cx="16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Web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 B2B Connectivity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22400" y="2822400"/>
            <a:ext cx="1047600" cy="10432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2192400" y="3121200"/>
            <a:ext cx="920520" cy="38412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337520" y="1392120"/>
            <a:ext cx="576000" cy="54000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013360" y="10447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916600" y="10447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337520" y="2552760"/>
            <a:ext cx="57600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190600" y="4946760"/>
            <a:ext cx="920880" cy="38412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ter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00640" y="19321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203880" y="228276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300640" y="32893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624800" y="3325680"/>
            <a:ext cx="576360" cy="54000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324080" y="3313080"/>
            <a:ext cx="674640" cy="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112920" y="1584360"/>
            <a:ext cx="1900440" cy="18208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3112920" y="1584360"/>
            <a:ext cx="2803680" cy="18208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3112920" y="1932120"/>
            <a:ext cx="4224600" cy="147312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3112920" y="2282760"/>
            <a:ext cx="2187720" cy="11224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3112920" y="2552760"/>
            <a:ext cx="3090960" cy="8524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3112920" y="2822040"/>
            <a:ext cx="4224600" cy="5828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112920" y="3405240"/>
            <a:ext cx="2187720" cy="1000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12920" y="3405240"/>
            <a:ext cx="2803680" cy="9064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916600" y="4119480"/>
            <a:ext cx="920880" cy="38412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6966000" y="3828600"/>
            <a:ext cx="658800" cy="48276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791480" y="4019400"/>
            <a:ext cx="576360" cy="54000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966000" y="4311720"/>
            <a:ext cx="658800" cy="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966000" y="4311720"/>
            <a:ext cx="700200" cy="6350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778880" y="4676760"/>
            <a:ext cx="57600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24080" y="3505320"/>
            <a:ext cx="828720" cy="14414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75120" y="477360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Leas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75120" y="438948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73320" y="515772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terne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075120" y="554184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rame Rela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4341960" y="3828600"/>
            <a:ext cx="958680" cy="111780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4341960" y="2822040"/>
            <a:ext cx="2995560" cy="212436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4341960" y="2552760"/>
            <a:ext cx="1861920" cy="20066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341960" y="1931760"/>
            <a:ext cx="2995560" cy="25714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341960" y="2282400"/>
            <a:ext cx="958680" cy="304812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4341960" y="1584000"/>
            <a:ext cx="671400" cy="36320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4341960" y="2976480"/>
            <a:ext cx="3149280" cy="256536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4341960" y="4389120"/>
            <a:ext cx="1535040" cy="134460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 B2B Connectivity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61880" y="3502080"/>
          <a:ext cx="8450280" cy="234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3502080"/>
                    <a:ext cx="8450280" cy="23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461880" y="1044720"/>
          <a:ext cx="8104320" cy="245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1880" y="1044720"/>
                    <a:ext cx="8104320" cy="24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"/>
          <p:cNvSpPr/>
          <p:nvPr/>
        </p:nvSpPr>
        <p:spPr>
          <a:xfrm>
            <a:off x="511920" y="323388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Van Fe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2280" y="860400"/>
            <a:ext cx="17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Character Co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 Security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22400" y="2822400"/>
            <a:ext cx="1047600" cy="104328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192400" y="3121200"/>
            <a:ext cx="920520" cy="38412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37520" y="1392120"/>
            <a:ext cx="576000" cy="54000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013360" y="10447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916600" y="10447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7520" y="2552760"/>
            <a:ext cx="57600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190600" y="4946760"/>
            <a:ext cx="920880" cy="38412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ter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300640" y="19321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203880" y="228276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300640" y="32893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624800" y="3325680"/>
            <a:ext cx="576360" cy="54000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324080" y="3313080"/>
            <a:ext cx="674640" cy="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3112920" y="1584360"/>
            <a:ext cx="2803680" cy="18208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16600" y="4119480"/>
            <a:ext cx="920880" cy="38412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6966000" y="3828600"/>
            <a:ext cx="658800" cy="48276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791480" y="4019400"/>
            <a:ext cx="576360" cy="54000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966000" y="4311720"/>
            <a:ext cx="658800" cy="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66000" y="4311720"/>
            <a:ext cx="700200" cy="6350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778880" y="4676760"/>
            <a:ext cx="57600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324080" y="3505320"/>
            <a:ext cx="828720" cy="14414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75120" y="477360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Leas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75120" y="438948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073320" y="515772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terne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075120" y="554184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rame Rela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4341960" y="3828600"/>
            <a:ext cx="958680" cy="111780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4341960" y="2552760"/>
            <a:ext cx="1861920" cy="20066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4341960" y="1931760"/>
            <a:ext cx="2995560" cy="25714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4341960" y="2282400"/>
            <a:ext cx="958680" cy="304812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4341960" y="1584000"/>
            <a:ext cx="671400" cy="36320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4341960" y="2976480"/>
            <a:ext cx="3149280" cy="256536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4341960" y="4389120"/>
            <a:ext cx="1535040" cy="134460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7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52303"/>
                                      </p:to>
                                    </p:animClr>
                                    <p:set>
                                      <p:cBhvr>
                                        <p:cTn id="668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0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52303"/>
                                      </p:to>
                                    </p:animClr>
                                    <p:set>
                                      <p:cBhvr>
                                        <p:cTn id="671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5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52303"/>
                                      </p:to>
                                    </p:animClr>
                                    <p:set>
                                      <p:cBhvr>
                                        <p:cTn id="676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8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52303"/>
                                      </p:to>
                                    </p:animClr>
                                    <p:set>
                                      <p:cBhvr>
                                        <p:cTn id="679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 Security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422360" y="2430360"/>
            <a:ext cx="7348680" cy="18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2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/MIM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G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FT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TTP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P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ardware Solu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1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10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3" dur="1000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1000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ata Transl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</a:rPr>
              <a:t>X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</a:rPr>
              <a:t>EDIF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</a:rPr>
              <a:t>C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</a:rPr>
              <a:t>TRAIN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</a:rPr>
              <a:t>Flat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</a:rPr>
              <a:t>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28520" y="549360"/>
            <a:ext cx="82454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  <a:ea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  <a:ea typeface="Arial"/>
              </a:rPr>
              <a:t>Data Transfor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1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3" dur="10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0" dur="10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2" dur="1000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ata Transformation (CSV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1538280" y="1325520"/>
            <a:ext cx="645156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3-09-26T15:51:16Z</dcterms:modified>
  <cp:revision>881</cp:revision>
  <dc:subject/>
  <dc:title>IBM Software Group</dc:title>
</cp:coreProperties>
</file>